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87888"/>
        <c:axId val="74864053"/>
      </c:barChart>
      <c:catAx>
        <c:axId val="91187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64053"/>
        <c:crosses val="autoZero"/>
        <c:auto val="1"/>
        <c:lblAlgn val="ctr"/>
        <c:lblOffset val="100"/>
        <c:noMultiLvlLbl val="0"/>
      </c:catAx>
      <c:valAx>
        <c:axId val="74864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87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9C1-C32B-48CE-85F7-2E8A2561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2CF-05C2-45B3-B45A-3A244EA0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CB9-1B5C-42E4-9001-A75AA918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FAA-9CF4-470A-AAC4-23044F58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1BD-D909-4F7B-908D-73D97A5C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9DF-1013-4385-A49C-FE3A3125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14A-A1F7-4CF1-AF99-286EE2EE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968-83BC-4D30-87E2-2729B6F1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79E-1CBA-466C-B681-0012E0CB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B03-559E-4065-8EDF-66E48518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288-E9FF-4249-9D78-67E550B6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369-ECD6-40EC-9B85-8254F54A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99444-360A-4D7F-8D02-4416501E97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