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71497"/>
        <c:axId val="72642429"/>
      </c:barChart>
      <c:catAx>
        <c:axId val="81771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42429"/>
        <c:crosses val="autoZero"/>
        <c:auto val="1"/>
        <c:lblAlgn val="ctr"/>
        <c:lblOffset val="100"/>
        <c:noMultiLvlLbl val="0"/>
      </c:catAx>
      <c:valAx>
        <c:axId val="72642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71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566-AD2E-4143-BE34-BF0204B8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C4D-72AA-4606-BF8D-FFD3CBBA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397-E754-4CE4-A80E-D3234180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795-DA3D-49CC-B781-0F96F7E7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AB9-DB4F-4892-AF11-D7633826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156-B00C-4AB8-B06C-22D50D2E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A90-822D-49C7-99C1-3B6B00B2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F1A-9E31-44A7-BE5A-F16193BF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642-1226-4257-8C56-E16ADF84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E06-97A0-4660-AF97-88FA5025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A10-1F1D-4AD5-BB92-809E68D2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96C-F0FF-44AF-A4E8-7FEBE33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A1A91-A5DE-454F-8919-E2D75DB28E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