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8459"/>
        <c:axId val="78004183"/>
      </c:barChart>
      <c:catAx>
        <c:axId val="4568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04183"/>
        <c:crosses val="autoZero"/>
        <c:auto val="1"/>
        <c:lblAlgn val="ctr"/>
        <c:lblOffset val="100"/>
        <c:noMultiLvlLbl val="0"/>
      </c:catAx>
      <c:valAx>
        <c:axId val="78004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8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BF1-9608-4D7A-8D3A-E1659848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511-DEE5-478F-90E9-9135278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579-F290-4765-B5F0-41FCEACF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6C8-A9E7-4C59-B098-3BF3EC11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480-82BC-4A62-B1CA-5BFBCBE4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E8A-4722-4A5A-8BE8-6F732D6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E15-9699-4457-B18E-887C926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635-4437-4ABF-98B0-8321F233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F5B-9A1B-4BC7-BE91-B712491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2BB-C5A1-4F13-A114-E6481FB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F8E-078C-4C39-AA31-E173BE4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0D2-6B48-44FC-9D56-F76BB9B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12B3-C168-4F60-8BD1-71CECE1CE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