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25950"/>
        <c:axId val="99582078"/>
      </c:barChart>
      <c:catAx>
        <c:axId val="27625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82078"/>
        <c:crosses val="autoZero"/>
        <c:auto val="1"/>
        <c:lblAlgn val="ctr"/>
        <c:lblOffset val="100"/>
        <c:noMultiLvlLbl val="0"/>
      </c:catAx>
      <c:valAx>
        <c:axId val="99582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25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4A50-5148-4D6F-AADF-988A248F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0CE-C946-4FCC-B636-28CFFD0F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06C-9F98-4DD0-966B-03C2CF1A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B20-662F-4349-8207-499C8594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100-B3CA-4019-9D27-38DD77B6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8C1-3D2B-4566-B25C-947AFC84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2EBA-F0FD-42D3-9260-83E3AB8E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E659-CB30-4A83-9B50-E84EE315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532-3E48-431B-AC99-24C4789C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5FB-2FBA-4750-BB8D-B33032A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769-272D-4326-BCD1-35DEB0FA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A145-C3C2-4828-AA9E-54C29FAF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B7DF2-754E-44A2-A302-31F4D55FF8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