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413126"/>
        <c:axId val="19370994"/>
      </c:barChart>
      <c:catAx>
        <c:axId val="584131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370994"/>
        <c:crosses val="autoZero"/>
        <c:auto val="1"/>
        <c:lblAlgn val="ctr"/>
        <c:lblOffset val="100"/>
        <c:noMultiLvlLbl val="0"/>
      </c:catAx>
      <c:valAx>
        <c:axId val="193709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131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A537-8E0C-4C40-8440-68E8CAA1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0FD0-FEED-45E6-9490-441D86BD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D35D-188E-46C2-8308-94256D85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7E41-0141-4411-B087-7B8E36B9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0F79-F121-42EF-A6A1-44D0A6FA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5C81-6848-40EE-BE7F-B85BFB34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A67F-0B4F-469C-AFAB-9155841F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6EE9-BDAD-4F7C-9ECA-97BC94B9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59EE-0046-4668-B4E3-C774C7BB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A65A-D90E-48D8-9466-A196268B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825C-D761-4742-BFA6-4915DD69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6399-0D5B-43BF-95A2-1E62DF9D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BB465-1674-430C-8CEB-BB3F93C8C3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