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24479"/>
        <c:axId val="42009423"/>
      </c:barChart>
      <c:catAx>
        <c:axId val="81124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9423"/>
        <c:crosses val="autoZero"/>
        <c:auto val="1"/>
        <c:lblAlgn val="ctr"/>
        <c:lblOffset val="100"/>
        <c:noMultiLvlLbl val="0"/>
      </c:catAx>
      <c:valAx>
        <c:axId val="42009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24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407-55EC-4048-AABD-7EDBBAD2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075-AA98-4E0A-A0B1-FC29A6AC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06C-D657-4F59-B52C-7C8F7CDC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5F4-E490-4916-A3CF-D19E5805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34B-CCC0-48B4-9F52-16AA57CB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532-0726-48C3-A617-1190DB1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092-36C5-4134-A290-D6B19AA5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302-3F10-40DA-B636-8D357EBC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002-D2CD-4E3B-8223-F531CA4C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305-7851-41CC-9FCF-E216CF51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1AB-5B2E-49A1-A22C-0FAFE06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206-EB59-4310-9EC6-CA901B96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CBCF9-3818-4A7C-AD6B-F210906AC8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