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45424"/>
        <c:axId val="90614881"/>
      </c:barChart>
      <c:catAx>
        <c:axId val="28745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14881"/>
        <c:crosses val="autoZero"/>
        <c:auto val="1"/>
        <c:lblAlgn val="ctr"/>
        <c:lblOffset val="100"/>
        <c:noMultiLvlLbl val="0"/>
      </c:catAx>
      <c:valAx>
        <c:axId val="906148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45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3AF-D4AF-4A29-8DF6-8F579059D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4A9-C260-47A4-AAE0-06B6EA99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F2CA-727C-4694-8348-F7C47FC21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4C0-7663-4300-8696-1889DCE2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56D-17EE-4645-B485-E78E5905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D16-BB0A-47F5-B82A-C4F64623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666-6D8E-4B99-9D30-97C0BC47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AB75-68B7-41AE-84BD-6259ACD2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6023-F610-4DC0-8908-DF3E970A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EB6-AD5C-45D0-8940-510CCEA8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F011-D3D2-4E27-8BE0-DD26D5C9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ACDA-795B-4C81-8156-1809B4A2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A3FB1-9146-46A6-A48A-343A0B75E0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